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0063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3F08-E88C-4140-9F64-94BF7B5E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5AC6-5C40-47EA-804A-E1FE0AAC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A09-123E-4A0D-ABCD-57EF8E3D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7A6-C8C8-4530-81E5-801D881B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87E-04A4-48DF-99A0-021D188E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CEB3-F43F-4BD0-AAA3-4B0D5DED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DEE-FD38-4029-A538-0DB2558A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CE3-D30C-4C46-9C02-19A0FF77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132-16F0-45F8-97A2-BEC430B3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034-7E1B-44C2-B43E-7FC93BC1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F2C-9731-4917-85C3-A84DD74C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F1C-546A-46FF-95A3-19844781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EFD9-850D-4921-BC5E-03E0A2B212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Percent Yield of </a:t>
            </a:r>
            <a:br>
              <a:rPr sz="4400"/>
            </a:b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Sodium Chlor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41911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Cl (aq) + Na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s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aCl (s)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(l) +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produc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876920" y="4723920"/>
            <a:ext cx="0" cy="685800"/>
          </a:xfrm>
          <a:prstGeom prst="line">
            <a:avLst/>
          </a:prstGeom>
          <a:ln w="38160">
            <a:solidFill>
              <a:srgbClr val="dddddd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Materials and Equip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aporating Di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ing st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nsen Burn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rik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l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ogg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ay triang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astic pipet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rlenmeyer Fla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H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C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ss the evaporating dish.  Recor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d 2.00 to 3.00 grams of sodium hydrogen carbonate to the evaporating dish.  Place on balance. Record ma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th the pipette, slowly add hydrochloric acid (HCl), to the evaporating dish until the reaction stops.  CAUTION: HCl is corrosive.  Report spills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Procedure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lowly heat the evaporating dish until there is no more water.  It should be DRY.  Take caution to not crack the dish or you may lose your produ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n there is no more water mass the evaporating dish and product.  Rec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inse and wipe the dish clean.  Return all materials back to their respective pla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Data T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219320"/>
          <a:ext cx="7772400" cy="5140080"/>
        </p:xfrm>
        <a:graphic>
          <a:graphicData uri="http://schemas.openxmlformats.org/drawingml/2006/table">
            <a:tbl>
              <a:tblPr/>
              <a:tblGrid>
                <a:gridCol w="5029200"/>
                <a:gridCol w="2743200"/>
              </a:tblGrid>
              <a:tr h="110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ss of evaporating dish (g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ss of evaporating dish, and NaHCO</a:t>
                      </a:r>
                      <a:r>
                        <a:rPr b="1" lang="en-US" sz="28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g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ss of evaporating dish and product (g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Calculations (show all work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ss of sodium hydrogen carbo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ss of sodium chloride produ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oretical y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cent y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What does your percent yield mean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What value for percent yield is ideal?  How are you basing this judgment?  Justify your answ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Was your percent yield high/low?  Explain your 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Which reactant was limiting?  How do you know this?  Explain your answ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03:57:07Z</dcterms:created>
  <dc:creator>D Costello</dc:creator>
  <dc:description/>
  <dc:language>en-US</dc:language>
  <cp:lastModifiedBy>CFISD</cp:lastModifiedBy>
  <dcterms:modified xsi:type="dcterms:W3CDTF">2008-12-17T16:55:48Z</dcterms:modified>
  <cp:revision>16</cp:revision>
  <dc:subject/>
  <dc:title>lithium oxide</dc:title>
</cp:coreProperties>
</file>